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1ED-5122-4F97-9B8C-82A932EF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15D-28E6-4DBA-B277-600D1D7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B59-E53A-41C4-B915-FF236913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591-B5A5-4AE6-9CDB-FC538153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A45-C238-4514-B9A7-5F32137B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813-8021-4881-B29C-C92D7A4F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93F-FFB3-4AE7-8ACD-3927BC65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F7C9-0E03-4EB7-9946-2FFDE8CF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9D4-016D-4518-ABFF-0446FF3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765-523B-486A-B735-7F9B3F9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F28-56AB-4933-830E-9BAAB26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AA1-1E5F-4DE4-8F3B-5916CD3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F217-BFB0-4B78-A4D9-A7DA552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A63-7CDE-4320-BCB2-4888429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009-3232-4D41-80D0-F081438B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E26-0453-4A45-8960-7100E799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00E-2F0D-4589-8EFA-B947DB96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3B4-F7C8-4AD2-B9CD-3F45C51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DB5-B7EF-45A1-B536-0ABE18D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B17-1642-4921-A4C7-C220DB2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730-9C73-47A2-86F1-3DFDB398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02D-7E9F-4FF2-B7DC-04E0148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332-8635-4EF6-8BFF-62007EC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518-15C1-4276-A617-9A9CB7E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731-BAB0-441F-AD6B-B330030084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0273-EB67-4B2F-8129-4E63516807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croteach 2 Lesson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904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ve lesson – it is to be anything but a direct teach. Should include much student involv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 Debates, simulations, problem solving, discussion, creating something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s should be u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one labeled ESOL accommod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three labeled CONVERGENT QUESTIONS and three labeled DIVERGENT QUESTION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a rough draft to class next week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would like, you can make modifications to your Microteach I lesson to make it more interac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llen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 Create a scale for your lesson AND post your learning goal at the front of your microteach classroom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Content Placeholder 3" descr="Microteach 2 Lesson Plan template.png"/>
          <p:cNvPicPr/>
          <p:nvPr/>
        </p:nvPicPr>
        <p:blipFill>
          <a:blip r:embed="rId1"/>
          <a:srcRect l="-59279" t="0" r="-59279" b="0"/>
          <a:stretch/>
        </p:blipFill>
        <p:spPr>
          <a:xfrm>
            <a:off x="-1371600" y="0"/>
            <a:ext cx="12573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Content Placeholder 3" descr="sample plan - p. 1.png"/>
          <p:cNvPicPr/>
          <p:nvPr/>
        </p:nvPicPr>
        <p:blipFill>
          <a:blip r:embed="rId1"/>
          <a:srcRect l="-67456" t="0" r="-67456" b="0"/>
          <a:stretch/>
        </p:blipFill>
        <p:spPr>
          <a:xfrm>
            <a:off x="-1803240" y="0"/>
            <a:ext cx="12699720" cy="692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Content Placeholder 3" descr="sample plan - p. 2.png"/>
          <p:cNvPicPr/>
          <p:nvPr/>
        </p:nvPicPr>
        <p:blipFill>
          <a:blip r:embed="rId1"/>
          <a:srcRect l="-69228" t="0" r="-69228" b="0"/>
          <a:stretch/>
        </p:blipFill>
        <p:spPr>
          <a:xfrm>
            <a:off x="-1600200" y="0"/>
            <a:ext cx="12573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10-06T12:59:47Z</cp:lastPrinted>
  <dcterms:modified xsi:type="dcterms:W3CDTF">2013-10-10T08:09:06Z</dcterms:modified>
  <cp:revision>333</cp:revision>
  <dc:subject/>
  <dc:title>Slide 1</dc:title>
</cp:coreProperties>
</file>